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4DDA-00D8-4C67-A4F8-6FA196FE1707}" type="datetime">
              <a:rPr b="0" lang="zh-CN" sz="1200" spc="-1" strike="noStrike">
                <a:solidFill>
                  <a:srgbClr val="000000"/>
                </a:solidFill>
                <a:latin typeface="Arial"/>
                <a:ea typeface="宋体"/>
              </a:rPr>
              <a:t>26/7/29</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D028-7C10-4B8D-8EA8-C204921F003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28A1-2CA7-4902-A3D7-E1CA30DE33E9}"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2BEF-098C-4C22-9E79-8E8B7A8AC92A}"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171F-92EF-4FE7-81A3-55BBF4688965}"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0675-4757-46A3-833E-F5D841CF82B2}"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334F2-865A-4C7D-B13B-EFFA40206AC1}"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99BB-4BCB-43CD-965E-5DFE8535AFAC}"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CDD03-E1B1-4B3C-B919-D138049A5658}"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60A5-FDE9-45D0-A972-4BF0388F8857}"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78755-C097-4F1F-806F-BB8F1E85E76B}"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A3B2-229F-46BB-A70F-BC7CCF6D1E08}"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693DA8-B8DD-44C4-B4CC-413BC3E805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24B072-32A8-4D7A-8521-FEC379948F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21222E0-9C9F-4CCD-AC0E-33C8C4ECC7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BE3DDF4-1DA4-4A49-B68A-6A8C633A1D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549D79-2D7B-488C-AEE3-8BC73049D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295EE6-3421-4EB3-B166-E09A883F33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C3BB9B-1094-4400-B604-8E640808FC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4AB030-D1AD-4873-8F10-110CD9DCC7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E7F5E4-C36D-49CA-BC52-591082105B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F155D6-6FE3-4F75-B8EC-A4AABAE4A0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1A83E4-9736-48AF-B41E-E0A142491F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FBEDED-37D5-433C-BCB9-B0D8678D5F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BDC7C-6E72-446C-B6D3-229E73A102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5FDAC9-7373-47D8-97F6-AB025C8155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FE7AAB-B241-4667-876A-18A4C9921C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EEB2FE-EDB9-4364-821A-B17038CBA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580AD7-BB08-45C2-ADE7-2F2FA43CD2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3C5A9B-D1AA-4DCC-AEBE-2D7EE68854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B5405B-5C9A-4A74-B7DB-C789DCA8F7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1E748B1-B583-419D-AE9F-BBEAA1C821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21BB166-723C-4342-B9B8-3A9EA003F5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57073F-C84E-4E4B-8866-9B41CC1CC2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4B457D-D065-42FF-8CBD-1FD26BF5A5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847428-CF8A-40DF-8EED-0A0E248961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3945-3B79-463D-9404-96EDAA5A40C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FB73-7EE1-4055-9D05-F5FF844BDDC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